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7744-0414-447C-93E2-573E64F78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2FB6-7CE2-4DE5-AC9D-D9BD3907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A174-BA75-41D4-B875-AED9D23C0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09B0-7B75-470E-B8F9-9D4CB7648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0DE58-FD93-40CF-A007-A27F9FA4B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99F68-2CFC-41EB-8F19-E92B4A5E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78077-97AA-42A9-8EAB-8E8DB914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11004-172D-4B80-B344-96AA67A7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32D30-709B-454C-A1D4-7F2BD1C3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CC172-A94E-4B8C-8A6E-F426CDBA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5A6B4-6503-43E9-AF3B-2B349417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0967-9561-469F-8C8A-9908EBDC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1E2A0-AC26-461A-A27C-96C11C3F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19E599-A998-4ED8-A855-403A0AB9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FF5DD-46C8-49E0-9AF8-0C46975F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5EE47-1C0F-41BB-A764-443C64066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0806E-2A12-431F-B549-2EA17E751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AB55-8ECC-4DF1-8659-DDAA5577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AA69-D66E-40A8-861A-2AB5BFE5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D67E-C7B4-4C72-B0D9-0D024DE6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9CC9-22AA-4C3E-8E99-42608A21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D1FF-AF51-4BB3-A50A-EF46AFF2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A6C9-22E1-4116-8551-76493F0A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C782-1860-4E1B-B0A5-4C037D30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DBEE-3D9D-43F0-A40B-77D521A5DA85}" type="slidenum">
              <a:rPr b="0" lang="fr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78B5-5211-4384-AFDE-FC87E4392828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1152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600" spc="-1" strike="noStrike">
                <a:solidFill>
                  <a:srgbClr val="ffffff"/>
                </a:solidFill>
                <a:latin typeface="Tahoma"/>
              </a:rPr>
              <a:t>Chương 2: Chuyên chở hàng hóa XNK bằng đường biể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8360" y="1844640"/>
            <a:ext cx="8424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 u="sng">
                <a:solidFill>
                  <a:srgbClr val="ffffff"/>
                </a:solidFill>
                <a:uFillTx/>
                <a:latin typeface="Tahoma"/>
              </a:rPr>
              <a:t>Nội dung cần nắm được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1- Các phương thức thuê tà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- Vận đơn (B/L - Bill of Ladi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3- Trách nhiệm của người chuyên chở theo các công ước quốc tế và quy định của Việt N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4- Các điều khoản trong VC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5- Khiếu nại người chuyên ch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1.3- ph©n lo¹i tµu bu«n (Sg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2400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2. Theo c¸c ®Æc tr­ng kinh tÕ – kü thuËt cña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uæi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®éng c¬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CÊu t¹o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CÊp h¹ng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Cê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räng t¶i tµu (ULCC, VLCC,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1.3- ph©n lo¹i tµu bu«n (Sg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68360" y="2204640"/>
            <a:ext cx="842472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3. Theo ph­¬ng thøc kinh doanh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µu chî (</a:t>
            </a:r>
            <a:r>
              <a:rPr b="1" i="1" lang="fr-BE" sz="3200" spc="-1" strike="noStrike">
                <a:solidFill>
                  <a:srgbClr val="000066"/>
                </a:solidFill>
                <a:latin typeface=".VnTime"/>
              </a:rPr>
              <a:t>liner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µu ch¹y r«ng (</a:t>
            </a:r>
            <a:r>
              <a:rPr b="1" i="1" lang="fr-BE" sz="3200" spc="-1" strike="noStrike">
                <a:solidFill>
                  <a:srgbClr val="000066"/>
                </a:solidFill>
                <a:latin typeface=".VnTime"/>
              </a:rPr>
              <a:t>tramp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): tµu chuyÕn, tµu ®Þnh h¹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1.4- ®éi tµu bu«n thÕ giíi (Sg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39280" y="2636640"/>
            <a:ext cx="7993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Sù ph¸t triÓn cña ®éi tµu bu«n thÕ gií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Xu h­íng tiÕn bé kü thuËt cña ®éi tµu bu«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1.5- ®éi tµu biÓn cña ViÖt Nam (Sg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555640" y="2707920"/>
            <a:ext cx="5040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æng träng t¶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C¬ cÊu ®éi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2- c¶ng biÓn (Sg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0" y="105264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2.1. ®Þnh nghÜ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Lµ n¬i ra vµo neo ®Ëu ®Ó xÕp dì hµng hãa cña tµu biÓ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 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2 chøc n</a:t>
            </a:r>
            <a:r>
              <a:rPr b="1" lang="fr-BE" sz="3200" spc="-1" strike="noStrike">
                <a:solidFill>
                  <a:srgbClr val="000066"/>
                </a:solidFill>
                <a:latin typeface="Times New Roman"/>
              </a:rPr>
              <a:t>ă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ng: phôc vô tµu vµ hµ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2.2. trang thiÕt b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cña c¶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718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2- c¶ng biÓn (Sg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39280" y="1412640"/>
            <a:ext cx="8425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2.3. c¸c chØ tiªu ho¹t ®éng cña c¶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Sè l­îng tµu ra vµ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Sè l­îng tµu cã thÓ lµm hµng trong cïng mét kháang thêi gi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Khèi l­îng hµng hãa xÕp dì trong </a:t>
            </a:r>
            <a:r>
              <a:rPr b="1" lang="fr-BE" sz="3200" spc="-1" strike="noStrike">
                <a:solidFill>
                  <a:srgbClr val="000066"/>
                </a:solidFill>
                <a:latin typeface="Times New Roman"/>
              </a:rPr>
              <a:t>nă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ff3300"/>
                </a:solidFill>
                <a:latin typeface=".VnTime"/>
              </a:rPr>
              <a:t>2- c¶ng biÓn (Sgk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539280" y="1412640"/>
            <a:ext cx="8425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2.4. P</a:t>
            </a:r>
            <a:r>
              <a:rPr b="1" lang="fr-BE" sz="3200" spc="-1" strike="noStrike">
                <a:solidFill>
                  <a:srgbClr val="000066"/>
                </a:solidFill>
                <a:latin typeface="Times New Roman"/>
              </a:rPr>
              <a:t>hân loại cả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ff3300"/>
                </a:solidFill>
                <a:latin typeface=".VnTime"/>
              </a:rPr>
              <a:t>2- c¶ng biÓn (Sgk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39280" y="1412640"/>
            <a:ext cx="8425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2.5. c¶ng biÓn ViÖt N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893440" cy="43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ff"/>
                </a:solidFill>
                <a:latin typeface="Tahoma"/>
              </a:rPr>
              <a:t>Chương 2: Chuyên chở hàng hóa XNK bằng đường biể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9280" y="1268280"/>
            <a:ext cx="8425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I- Ưu nhược điểm của VT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1- Ưu điểm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đầu tư cơ sở hạ tầng thấ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năng lực chuyên chở lớ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giá thành VTB thấ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2- Nhược điể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Tốc độ thấp: 14 </a:t>
            </a:r>
            <a:r>
              <a:rPr b="1" lang="vi-V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 20 hải lý/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Nhiều rủi 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893440" cy="503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ff"/>
                </a:solidFill>
                <a:latin typeface="Tahoma"/>
              </a:rPr>
              <a:t>Chương 2: Chuyên chở hàng hóa XNK bằng đường biể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9280" y="1412640"/>
            <a:ext cx="8425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II- Cơ sở vật chất kỹ thuật của VT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Tàu buôn (</a:t>
            </a:r>
            <a:r>
              <a:rPr b="1" i="1" lang="fr-BE" sz="3200" spc="-1" strike="noStrike">
                <a:solidFill>
                  <a:srgbClr val="ffffff"/>
                </a:solidFill>
                <a:latin typeface="Tahoma"/>
              </a:rPr>
              <a:t>merchant ship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Cảng biển (</a:t>
            </a:r>
            <a:r>
              <a:rPr b="1" i="1" lang="fr-BE" sz="3200" spc="-1" strike="noStrike">
                <a:solidFill>
                  <a:srgbClr val="ffffff"/>
                </a:solidFill>
                <a:latin typeface="Tahoma"/>
              </a:rPr>
              <a:t>port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1- Tàu buô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1.1- khái niệ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Viện KTếHHải: là tàu chở hàng hóa hoặc hành khách vỡ mục đích thương mạ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1.2- đặc trư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1.2- đặc trưng kinh tế kỹ thuật của tàu biể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1269720"/>
            <a:ext cx="8785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Tên tà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Chủ tà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Cảng đăng ký của tà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Mớn nước của tàu (</a:t>
            </a:r>
            <a:r>
              <a:rPr b="1" i="1" lang="vi-VN" sz="3200" spc="-1" strike="noStrike">
                <a:solidFill>
                  <a:srgbClr val="ffffff"/>
                </a:solidFill>
                <a:latin typeface="Tahoma"/>
              </a:rPr>
              <a:t>draugh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Mớn nước khi tàu không hà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Mớn nước khi tàu có hà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Vạch xếp hàng (</a:t>
            </a:r>
            <a:r>
              <a:rPr b="1" i="1" lang="vi-VN" sz="3200" spc="-1" strike="noStrike">
                <a:solidFill>
                  <a:srgbClr val="ffffff"/>
                </a:solidFill>
                <a:latin typeface="Tahoma"/>
              </a:rPr>
              <a:t>Load line) – vạch Plimso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1.2- ®Æc tr­ng kinh tÕ kü thuËt cña tµu b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9280" y="1412640"/>
            <a:ext cx="8425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Đéng c¬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räng l­îng cña tµu (</a:t>
            </a:r>
            <a:r>
              <a:rPr b="1" i="1" lang="fr-BE" sz="3200" spc="-1" strike="noStrike">
                <a:solidFill>
                  <a:srgbClr val="000066"/>
                </a:solidFill>
                <a:latin typeface=".VnTime"/>
              </a:rPr>
              <a:t>displacement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	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	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100 CB = 2,83 m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	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	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D = M/3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räng l­îng nhÑ (</a:t>
            </a:r>
            <a:r>
              <a:rPr b="1" i="1" lang="fr-BE" sz="3200" spc="-1" strike="noStrike">
                <a:solidFill>
                  <a:srgbClr val="000066"/>
                </a:solidFill>
                <a:latin typeface=".VnTime"/>
              </a:rPr>
              <a:t>LD – light displacement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räng l­îng nÆng (</a:t>
            </a:r>
            <a:r>
              <a:rPr b="1" i="1" lang="fr-BE" sz="3200" spc="-1" strike="noStrike">
                <a:solidFill>
                  <a:srgbClr val="000066"/>
                </a:solidFill>
                <a:latin typeface=".VnTime"/>
              </a:rPr>
              <a:t>HD – heavy displacement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HD = LD + träng l­îng hµng hãa vµ vËt phÈm cung ø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1.2- ®Æc tr­ng kinh tÕ kü thuËt cña tµu b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0560" y="98064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-Träng t¶i cña tµu (</a:t>
            </a:r>
            <a:r>
              <a:rPr b="0" i="1" lang="fr-BE" sz="3200" spc="-1" strike="noStrike">
                <a:solidFill>
                  <a:srgbClr val="000066"/>
                </a:solidFill>
                <a:latin typeface=".VnTime"/>
              </a:rPr>
              <a:t>carrying capacity</a:t>
            </a: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Träng t¶i tßan phÇn (DWC) = HD – 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Träng t¶i tÞnh (DWCC) = DWC – träng l­îng vËt phÈm cung ø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Dung tÝch ®</a:t>
            </a:r>
            <a:r>
              <a:rPr b="0" lang="fr-BE" sz="3200" spc="-1" strike="noStrike">
                <a:solidFill>
                  <a:srgbClr val="000066"/>
                </a:solidFill>
                <a:latin typeface="Times New Roman"/>
              </a:rPr>
              <a:t>ăng</a:t>
            </a: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 ký cña tµu (</a:t>
            </a:r>
            <a:r>
              <a:rPr b="0" i="1" lang="fr-BE" sz="3200" spc="-1" strike="noStrike">
                <a:solidFill>
                  <a:srgbClr val="000066"/>
                </a:solidFill>
                <a:latin typeface=".VnTime"/>
              </a:rPr>
              <a:t>register tonnage</a:t>
            </a: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Dung tÝch ®</a:t>
            </a:r>
            <a:r>
              <a:rPr b="0" lang="fr-BE" sz="3200" spc="-1" strike="noStrike">
                <a:solidFill>
                  <a:srgbClr val="000066"/>
                </a:solidFill>
                <a:latin typeface="Times New Roman"/>
              </a:rPr>
              <a:t>ă</a:t>
            </a: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ng ký toµn phÇn (GRT - </a:t>
            </a:r>
            <a:r>
              <a:rPr b="0" i="1" lang="fr-BE" sz="3200" spc="-1" strike="noStrike">
                <a:solidFill>
                  <a:srgbClr val="000066"/>
                </a:solidFill>
                <a:latin typeface=".VnTime"/>
              </a:rPr>
              <a:t>Gros Register Tonage</a:t>
            </a: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Dung tÝch ®</a:t>
            </a:r>
            <a:r>
              <a:rPr b="0" lang="fr-BE" sz="3200" spc="-1" strike="noStrike">
                <a:solidFill>
                  <a:srgbClr val="000066"/>
                </a:solidFill>
                <a:latin typeface="Times New Roman"/>
              </a:rPr>
              <a:t>ă</a:t>
            </a: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ng ký tÞnh (NRT - </a:t>
            </a:r>
            <a:r>
              <a:rPr b="0" i="1" lang="fr-BE" sz="3200" spc="-1" strike="noStrike">
                <a:solidFill>
                  <a:srgbClr val="000066"/>
                </a:solidFill>
                <a:latin typeface=".VnTime"/>
              </a:rPr>
              <a:t>Net Register Tonage</a:t>
            </a: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NRT = GRT – dung tÝch c¸c phßng </a:t>
            </a:r>
            <a:r>
              <a:rPr b="0" lang="fr-BE" sz="3200" spc="-1" strike="noStrike">
                <a:solidFill>
                  <a:srgbClr val="000066"/>
                </a:solidFill>
                <a:latin typeface="Times New Roman"/>
              </a:rPr>
              <a:t>ă</a:t>
            </a: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n ë, gi¶i trÝ, buång m¸y hoa tiª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43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1.2- ®Æc tr­ng kinh tÕ kü thuËt cña tµu b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50560" y="98064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-Dung tÝch chøa hµng cña tµu (</a:t>
            </a:r>
            <a:r>
              <a:rPr b="1" i="1" lang="fr-BE" sz="3200" spc="-1" strike="noStrike">
                <a:solidFill>
                  <a:srgbClr val="000066"/>
                </a:solidFill>
                <a:latin typeface=".VnTime"/>
              </a:rPr>
              <a:t>cargo space – CS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CS hµng bao kiÖ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CS hµng rê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HÖ sè xÕp hµng cña tµu (</a:t>
            </a:r>
            <a:r>
              <a:rPr b="1" i="1" lang="fr-BE" sz="3200" spc="-1" strike="noStrike">
                <a:solidFill>
                  <a:srgbClr val="000066"/>
                </a:solidFill>
                <a:latin typeface=".VnTime"/>
              </a:rPr>
              <a:t>coefficient loading – CL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CL = CS / DWC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HÖ sè xÕp hµng cña hµng (</a:t>
            </a:r>
            <a:r>
              <a:rPr b="1" i="1" lang="fr-BE" sz="3200" spc="-1" strike="noStrike">
                <a:solidFill>
                  <a:srgbClr val="000066"/>
                </a:solidFill>
                <a:latin typeface=".VnTime"/>
              </a:rPr>
              <a:t>stowage factor - SF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3200" spc="-1" strike="noStrike">
                <a:solidFill>
                  <a:srgbClr val="ff3300"/>
                </a:solidFill>
                <a:latin typeface=".VnTime"/>
              </a:rPr>
              <a:t>Lµm thÕ nµo ®Ó xÕp hµng tèi ­u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CL = SF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 </a:t>
            </a:r>
            <a:r>
              <a:rPr b="1" lang="fr-BE" sz="32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 Sg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3300"/>
                </a:solidFill>
                <a:latin typeface=".VnTime"/>
              </a:rPr>
              <a:t>1.2- ®Æc tr­ng kinh tÕ kü thuËt cña tµu b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KÝch th­íc cña tµu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ChiÒu dµi: chiÒu dµi toµn bé vµ chiÒu dµi theo mín n­íc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ChiÒu réng cña tµu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CÊp h¹ng cña tµu (</a:t>
            </a:r>
            <a:r>
              <a:rPr b="1" i="1" lang="fr-BE" sz="3000" spc="-1" strike="noStrike">
                <a:solidFill>
                  <a:srgbClr val="000066"/>
                </a:solidFill>
                <a:latin typeface=".VnTime"/>
              </a:rPr>
              <a:t>class of ship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Cê tµu (</a:t>
            </a:r>
            <a:r>
              <a:rPr b="1" i="1" lang="fr-BE" sz="3000" spc="-1" strike="noStrike">
                <a:solidFill>
                  <a:srgbClr val="000066"/>
                </a:solidFill>
                <a:latin typeface=".VnTime"/>
              </a:rPr>
              <a:t>flag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): cê cña n­íc mµ tµu mang quèc tÞch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Cê th­êng (</a:t>
            </a:r>
            <a:r>
              <a:rPr b="1" i="1" lang="fr-BE" sz="3000" spc="-1" strike="noStrike">
                <a:solidFill>
                  <a:srgbClr val="000066"/>
                </a:solidFill>
                <a:latin typeface=".VnTime"/>
              </a:rPr>
              <a:t>conventional flag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Cê ph­¬ng tiÖn (</a:t>
            </a:r>
            <a:r>
              <a:rPr b="1" i="1" lang="fr-BE" sz="3000" spc="-1" strike="noStrike">
                <a:solidFill>
                  <a:srgbClr val="000066"/>
                </a:solidFill>
                <a:latin typeface=".VnTime"/>
              </a:rPr>
              <a:t>flag of convinience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Cê ph­¬ng tiÖn phæ biÕn trong TMQT v</a:t>
            </a:r>
            <a:r>
              <a:rPr b="1" lang="fr-BE" sz="3000" spc="-1" strike="noStrike">
                <a:solidFill>
                  <a:srgbClr val="000066"/>
                </a:solidFill>
                <a:latin typeface="Times New Roman"/>
              </a:rPr>
              <a:t>ì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 2 lý do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	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	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+ chÝnh trÞ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	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	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+ kinh tÕ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1.3- ph©n lo¹i tµu bu«n (Sg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24000" y="1555920"/>
            <a:ext cx="8640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1. Theo c«ng dôn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µu chë hµng kh«: tµu chë hµng b¸ch ho¸, tµu container, tµu LASH, tµu RO-RO, tµu LO-LO, tµu chë hµng ®«ng l¹nh, tµu kÕt hîp,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µu chë hµng láng: tµu dÇu, tµu chë nhiªn liÖu hãa láng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rinh Huong</cp:lastModifiedBy>
  <dcterms:modified xsi:type="dcterms:W3CDTF">2010-12-18T21:53:27Z</dcterms:modified>
  <cp:revision>50</cp:revision>
  <dc:subject/>
  <dc:title>PowerPoint Presentation</dc:title>
</cp:coreProperties>
</file>